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4052-CE33-4D75-93CD-A623053B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79C5-CC84-45D9-9E5B-0DE20527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02D3-DEEB-44E6-AB12-0E5B2A10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7404-9372-4E00-8C41-652704A3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C8C8-8FA5-481D-BB7C-3C4AD833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FA99-AA46-4A75-B904-96BC921E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024D-3995-4CC6-AAFD-E9DDFF3E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A50C-FD8D-48E1-A375-D97E7012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10F5-02CF-4E4B-A0DC-A78555D5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1ADE-7DDB-4C6C-BC6D-FA103B7B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4E5D-9EE6-4602-9C97-0BA7301E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BB3A-9C12-473C-8F3D-B2330372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2337-CE1F-40CE-819D-EE4786EF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6D6B-C8EE-4F96-9211-8F574A62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5EA3-A3E1-4D7F-9F1E-1064DC52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DFC9-A8B9-41EA-B377-66355DADD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8BF4-1D8C-4A9C-A752-445472FE5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0326-E137-41D3-8F4C-EBA25A2D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A4D2-9D27-476C-8911-9C654A8D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FCBE-E6C2-4AEB-AFC8-43E0778D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6F4D-A85E-422F-8F5B-9313C5D3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2209-BB26-445F-A26A-3EABDFD8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E7B2-3E7F-4497-B6EA-4624B417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0C36-AA5D-4728-BB60-8B150C47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B0A0-4F33-4EED-956F-84BA98434C1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E142-C0FC-49D3-98C3-7F6BA308DDC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95280" y="907920"/>
            <a:ext cx="8748720" cy="5445360"/>
          </a:xfrm>
          <a:prstGeom prst="rect">
            <a:avLst/>
          </a:prstGeom>
          <a:ln w="0">
            <a:noFill/>
          </a:ln>
        </p:spPr>
      </p:pic>
      <p:sp>
        <p:nvSpPr>
          <p:cNvPr id="90" name="Tytuł 1"/>
          <p:cNvSpPr/>
          <p:nvPr/>
        </p:nvSpPr>
        <p:spPr>
          <a:xfrm>
            <a:off x="755640" y="476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ffcc00"/>
                </a:solidFill>
                <a:latin typeface="Arial"/>
              </a:rPr>
              <a:t>WODÓR (hydrogenium)</a:t>
            </a:r>
            <a:br>
              <a:rPr sz="4800"/>
            </a:br>
            <a:r>
              <a:rPr b="1" lang="pl-PL" sz="4800" spc="-1" strike="noStrike">
                <a:solidFill>
                  <a:srgbClr val="ffcc00"/>
                </a:solidFill>
                <a:latin typeface="Arial"/>
              </a:rPr>
              <a:t>najlżejszy z gazó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nokautimg1.pl/p-04-65-04656ff3a8c62865ef7313db3a0bbdfc500x500/tablica-uwaga-wodor.jpg"/>
          <p:cNvPicPr/>
          <p:nvPr/>
        </p:nvPicPr>
        <p:blipFill>
          <a:blip r:embed="rId2"/>
          <a:srcRect l="0" t="24191" r="0" b="24400"/>
          <a:stretch/>
        </p:blipFill>
        <p:spPr>
          <a:xfrm>
            <a:off x="1619280" y="2565360"/>
            <a:ext cx="597708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rostokąt 3"/>
          <p:cNvSpPr/>
          <p:nvPr/>
        </p:nvSpPr>
        <p:spPr>
          <a:xfrm>
            <a:off x="0" y="620640"/>
            <a:ext cx="914400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ja 1937r. na lotnisku marynarki wojennej USA -Lakehurst Field, w pobliżu Nowego Jorku, doszło do katastrofy największego na świecie, niemieckiego sterowc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„Hindenburg”. Wart 3 miliony 750 tys. $„statek przyszłości”, mieszczący 2 miliony m</a:t>
            </a:r>
            <a:r>
              <a:rPr b="0" lang="pl-PL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rostokąt 4"/>
          <p:cNvSpPr/>
          <p:nvPr/>
        </p:nvSpPr>
        <p:spPr>
          <a:xfrm>
            <a:off x="254880" y="0"/>
            <a:ext cx="596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strożnie z wodorem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http://4.bp.blogspot.com/_S7cyAVhrW9U/TIDvfMdtWpI/AAAAAAAAAPs/n6bJfMJYMlE/s1600/170810top.jpg"/>
          <p:cNvPicPr/>
          <p:nvPr/>
        </p:nvPicPr>
        <p:blipFill>
          <a:blip r:embed="rId1"/>
          <a:srcRect l="8122" t="0" r="0" b="5516"/>
          <a:stretch/>
        </p:blipFill>
        <p:spPr>
          <a:xfrm>
            <a:off x="0" y="2671920"/>
            <a:ext cx="5724360" cy="4186080"/>
          </a:xfrm>
          <a:prstGeom prst="rect">
            <a:avLst/>
          </a:prstGeom>
          <a:ln w="0">
            <a:noFill/>
          </a:ln>
        </p:spPr>
      </p:pic>
      <p:sp>
        <p:nvSpPr>
          <p:cNvPr id="114" name="Prostokąt 7"/>
          <p:cNvSpPr/>
          <p:nvPr/>
        </p:nvSpPr>
        <p:spPr>
          <a:xfrm>
            <a:off x="6084720" y="2276640"/>
            <a:ext cx="3059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hodząc do lądowania, stanął w płomieniach. Była to najbardziej spektakularna katastrofa stulecia, która zamknęła erę sterowc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388360" cy="62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http://www.astronomynow.com/news/n0908/26trifid/trifid.jpg"/>
          <p:cNvPicPr/>
          <p:nvPr/>
        </p:nvPicPr>
        <p:blipFill>
          <a:blip r:embed="rId1"/>
          <a:stretch/>
        </p:blipFill>
        <p:spPr>
          <a:xfrm>
            <a:off x="0" y="0"/>
            <a:ext cx="5364000" cy="6900840"/>
          </a:xfrm>
          <a:prstGeom prst="rect">
            <a:avLst/>
          </a:prstGeom>
          <a:ln w="0">
            <a:noFill/>
          </a:ln>
        </p:spPr>
      </p:pic>
      <p:sp>
        <p:nvSpPr>
          <p:cNvPr id="94" name="Prostokąt 2"/>
          <p:cNvSpPr/>
          <p:nvPr/>
        </p:nvSpPr>
        <p:spPr>
          <a:xfrm>
            <a:off x="5435640" y="1773360"/>
            <a:ext cx="3708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st najbardziej rozpowszechnionym pierwiastkiem we Wszechświeci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tomy wodoru stanowią 90% wszystkich atomów wszechświa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rostokąt 3"/>
          <p:cNvSpPr/>
          <p:nvPr/>
        </p:nvSpPr>
        <p:spPr>
          <a:xfrm>
            <a:off x="6230520" y="549360"/>
            <a:ext cx="200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alibri"/>
              </a:rPr>
              <a:t>Wodór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rostokąt 1"/>
          <p:cNvSpPr/>
          <p:nvPr/>
        </p:nvSpPr>
        <p:spPr>
          <a:xfrm>
            <a:off x="395280" y="1844640"/>
            <a:ext cx="87487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dór w skorupie ziemskiej stanow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14% masowe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stępuje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przyrodzie w stanie związanym, natomiast w stanie wolnym spotyka się go w małych ilościach w gazach wulkanicznych, a niekiedy i w gazie ziemnym. Ślady „wolnego” wodoru znajdują się też w pobliżu powierzchni Ziemi oraz w górnych warstwach atmosfery. Bardzo niewielkie ilości wodoru wydzielają się z niektórych gorących źróde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łówny źródłem wodoru jest woda i większość związków organiczny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 których skład wchodzą przede wszystkim węgiel i wodó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rostokąt 3"/>
          <p:cNvSpPr/>
          <p:nvPr/>
        </p:nvSpPr>
        <p:spPr>
          <a:xfrm>
            <a:off x="974880" y="765000"/>
            <a:ext cx="240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alibri"/>
              </a:rPr>
              <a:t>Na Ziemi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rostokąt 2"/>
          <p:cNvSpPr/>
          <p:nvPr/>
        </p:nvSpPr>
        <p:spPr>
          <a:xfrm>
            <a:off x="395280" y="692280"/>
            <a:ext cx="87487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iększych od 10 000 000 </a:t>
            </a:r>
            <a:r>
              <a:rPr b="0" lang="pl-PL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, panujących w gwiazdach, zachodzą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eakcje termojądrow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 W ich wyniku następuje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zemiana wodoru w he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a energia wydzielana w tych reakcjach jest głównym źródłem energii promienistej emitowanej przez Słoń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rostokąt 5"/>
          <p:cNvSpPr/>
          <p:nvPr/>
        </p:nvSpPr>
        <p:spPr>
          <a:xfrm>
            <a:off x="256320" y="0"/>
            <a:ext cx="42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alibri"/>
              </a:rPr>
              <a:t>W temperaturach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0" y="2852640"/>
            <a:ext cx="9144000" cy="40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rostokąt 1"/>
          <p:cNvSpPr/>
          <p:nvPr/>
        </p:nvSpPr>
        <p:spPr>
          <a:xfrm>
            <a:off x="250920" y="907920"/>
            <a:ext cx="88930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warunkach normalnych jest gazem bezbarwny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zwonnym i bez smak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łabo rozpuszczalnym w wodz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z o najmniejszej gęstości(14 razy mniejszej od gęstości powietrz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rostokąt 4"/>
          <p:cNvSpPr/>
          <p:nvPr/>
        </p:nvSpPr>
        <p:spPr>
          <a:xfrm>
            <a:off x="255600" y="0"/>
            <a:ext cx="745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Właściwości fizyczne wodoru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rcRect l="19600" t="27219" r="17220" b="5704"/>
          <a:stretch/>
        </p:blipFill>
        <p:spPr>
          <a:xfrm>
            <a:off x="1116000" y="2546280"/>
            <a:ext cx="67690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rostokąt 1"/>
          <p:cNvSpPr/>
          <p:nvPr/>
        </p:nvSpPr>
        <p:spPr>
          <a:xfrm>
            <a:off x="395280" y="1557360"/>
            <a:ext cx="87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zwon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Łączy się z niemetalam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 tlenem tworzy wod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 azotem tworzy amoni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 chlorem chlorowodó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 siarką siarkowodó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Łączy się z metalami tworząc wodor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rostokąt 2"/>
          <p:cNvSpPr/>
          <p:nvPr/>
        </p:nvSpPr>
        <p:spPr>
          <a:xfrm>
            <a:off x="474120" y="476280"/>
            <a:ext cx="80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Właściwości chemiczne wodoru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rostokąt 2"/>
          <p:cNvSpPr/>
          <p:nvPr/>
        </p:nvSpPr>
        <p:spPr>
          <a:xfrm>
            <a:off x="1727280" y="981000"/>
            <a:ext cx="7416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reakcji pomiędzy cynkiem Zn i kwasem solnym HC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rostokąt 3"/>
          <p:cNvSpPr/>
          <p:nvPr/>
        </p:nvSpPr>
        <p:spPr>
          <a:xfrm>
            <a:off x="3063960" y="260280"/>
            <a:ext cx="559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trzymywanie wodo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rostokąt 2"/>
          <p:cNvSpPr/>
          <p:nvPr/>
        </p:nvSpPr>
        <p:spPr>
          <a:xfrm>
            <a:off x="574560" y="981000"/>
            <a:ext cx="856944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kcja wodoru z tlenem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lanie wodo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→2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kcja wymaga zainicjowania i jest silnie egzotermiczna. Po ogrzaniu mieszaniny do temp. 180°C (tworzenie się pary wodnej) następuje z dostrzegalną szybkością, a w temperaturze wyższej niż 450°C reakcja przebiega wybuchow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buch jest szczególnie gwałtowny, jeżeli stosunek objętościowy wodoru do tlenu wynosi 2:1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eszaninę taką nazywa się mieszaniną piorunującą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ybuch może być zapoczątkowany przez iskrę elektryczną lub zetknięcie z płomieniem. Czysty wodór (wypływający z palnika, temp. ok. 640°C) pali się niebieskim, słabo świecącym płomieni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rostokąt 3"/>
          <p:cNvSpPr/>
          <p:nvPr/>
        </p:nvSpPr>
        <p:spPr>
          <a:xfrm>
            <a:off x="254520" y="0"/>
            <a:ext cx="286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iekawostk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6T12:03:32Z</dcterms:created>
  <dc:creator>jkandyba</dc:creator>
  <dc:description/>
  <dc:language>en-US</dc:language>
  <cp:lastModifiedBy>Toshiba</cp:lastModifiedBy>
  <dcterms:modified xsi:type="dcterms:W3CDTF">2013-05-05T19:28:23Z</dcterms:modified>
  <cp:revision>34</cp:revision>
  <dc:subject/>
  <dc:title>Slajd 1</dc:title>
</cp:coreProperties>
</file>